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35F7-2E57-4994-BAA0-A4DD96E9A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1471-C4A0-4BC8-AC27-0420C579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EBDE-D4B1-4438-8FAC-60A4451DF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F9D4-FDE1-4634-9C4D-00EE4BBE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F611D-50AC-4637-B5E9-4B61E3169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DEACE-C14C-40C8-B876-814AA5C0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B2700-E1D7-4907-AECA-5793076E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9ABB2-D708-438E-B3BC-263EECFE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970F9-9E70-4CCF-8EA3-A45BB6DC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F9961-2730-473C-BE72-2A822BA8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6DA58-3FE4-4135-9F94-E34F9FA3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860C-7758-4706-B587-836728E7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5DF7A-2C15-4433-97FD-3837195D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9C0A5-8DCC-4E5A-97B1-91FE16E0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F7E29-19F6-4111-8BD9-DF7E7EA4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E2524-B035-4C13-B051-AFC7D5E1C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1FEB6-9205-48D1-9C82-3B7BC0959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2F62-B343-4A3B-A1E5-9FF81EB1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E0A4-106B-4CEB-B1A5-C359700B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5E9B-E632-4D1B-943D-36C7228C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DB64-3512-4210-98DC-A6BC0A3D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6BDE-9C87-4DA9-9F27-8F2B55CE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D672-CB73-4A11-BB47-6211F393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03AD-EC20-45DA-BE17-FA06B467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607D-D5F2-4B11-8464-36AC3BAF3F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A39C-E13F-466A-9FCE-B87997BB8C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ahoma"/>
              </a:rPr>
              <a:t>Our Place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E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oosier Environmental Counc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lace-based Education Pro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werPoint By Valerie Goetz Dou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What is place-based Educatio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 process of using the local community and environment as a starting point to teach language arts, mathematics, social studies, science, and other subjects across the curriculum”- David Sob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quiry-based lear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ademic standards bas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nds-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l world environmental probl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ages students in their commun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rner-cente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tructivist metho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ependent and cooperative learn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Why use Place-based educatio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creases academic achieve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creases social capit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creases environmental quali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nvironmental Based Project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iana is 49th in the nation in environmental qua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ject improves the local enviro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 contribute to their community’s environmental qua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ean a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ean water 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ow will we do “Our Place”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view agenda for toda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imeline for the Projec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source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source perso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17:21:25Z</dcterms:created>
  <dc:creator>vdoud</dc:creator>
  <dc:description/>
  <dc:language>en-US</dc:language>
  <cp:lastModifiedBy>emma doud</cp:lastModifiedBy>
  <dcterms:modified xsi:type="dcterms:W3CDTF">2009-06-15T21:12:05Z</dcterms:modified>
  <cp:revision>10</cp:revision>
  <dc:subject/>
  <dc:title>Our Place</dc:title>
</cp:coreProperties>
</file>